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656F-1683-4C92-844F-B9ACC3C0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A4E7-E1EE-4941-A447-3E67E6FC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FFB2-E834-4485-A6C5-1C027390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75A0-858D-4511-A74E-C4E8BE11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86B3-969C-40A7-A852-B048B6A8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38DD-02A6-4EF3-8B6D-3F1362D5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34AC-6845-4F55-968B-CD1C77DD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9383-A4E2-4D17-852A-E7D1CA92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40A8-E6B5-46A2-BDF9-8F964156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B9B6-EB02-4BEB-ACBB-C807CE8A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3BC3-590F-4ECE-9DFC-8627EBF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20A1-CB8D-4FFD-BB3B-2FBBA0F1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9D32-023B-42E8-A0F6-B9AB23D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0682-EE0B-45EA-BEDF-D5F4F02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935A-E6A3-4DF3-988F-B664827B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36DE-F881-4C98-B75A-7C97A1F8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153C-2428-465E-A7F8-F6D9248F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7275-5C6F-4CB1-86C3-F4AB23C3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2F61-0D3B-4229-9927-FBB0082F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AF84-B6D5-45AC-A05C-3BE8539C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99C9-0BF6-457D-B8F0-7725CD25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273E-1164-4554-96A0-FD34141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4F62-A4E6-4861-B838-385D486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D2DD-0DD1-46B3-B2DC-47D46F78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A363-EB41-4BBA-ACE9-262996140F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ECD4-E8BE-4789-9A28-B0CA47EDC0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Основные понятия хими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стекло9"/>
          <p:cNvPicPr/>
          <p:nvPr/>
        </p:nvPicPr>
        <p:blipFill>
          <a:blip r:embed="rId1"/>
          <a:stretch/>
        </p:blipFill>
        <p:spPr>
          <a:xfrm>
            <a:off x="6732720" y="333360"/>
            <a:ext cx="143964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стекло8"/>
          <p:cNvPicPr/>
          <p:nvPr/>
        </p:nvPicPr>
        <p:blipFill>
          <a:blip r:embed="rId2"/>
          <a:stretch/>
        </p:blipFill>
        <p:spPr>
          <a:xfrm>
            <a:off x="468360" y="4370400"/>
            <a:ext cx="22320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им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90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ения, в резуль-тате котор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образуются новые веществ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облада-ющие новыми хими-ческими свойства-м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из углекислого газа и воды в клетках деревьев образу-ется глюкоза и кисл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деревья-рис.3"/>
          <p:cNvPicPr/>
          <p:nvPr/>
        </p:nvPicPr>
        <p:blipFill>
          <a:blip r:embed="rId1"/>
          <a:stretch/>
        </p:blipFill>
        <p:spPr>
          <a:xfrm>
            <a:off x="5435640" y="1700280"/>
            <a:ext cx="352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3-05"/>
          <p:cNvPicPr/>
          <p:nvPr/>
        </p:nvPicPr>
        <p:blipFill>
          <a:blip r:embed="rId1"/>
          <a:stretch/>
        </p:blipFill>
        <p:spPr>
          <a:xfrm>
            <a:off x="755640" y="1268280"/>
            <a:ext cx="7920000" cy="540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808200" y="42372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Что необходимо расте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из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95640" y="1981080"/>
            <a:ext cx="4897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ения, при кото-рых 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изменяются агрегатное состоя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форма тел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рзание в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ей) или кипячение воды (па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лед на ветках-рис.8"/>
          <p:cNvPicPr/>
          <p:nvPr/>
        </p:nvPicPr>
        <p:blipFill>
          <a:blip r:embed="rId1"/>
          <a:stretch/>
        </p:blipFill>
        <p:spPr>
          <a:xfrm>
            <a:off x="324000" y="1989000"/>
            <a:ext cx="3481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1100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равнение химической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– условная запись химического процесса, в которой используются химические символы, математические знаки и иные 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« При взаимодействии молекул водорода и кислорода образуются молекулы воды», можно записать в вид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2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+ О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→ 2 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atomos – неделим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наименьшая частица химиче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мента, носитель его свой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менты химически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и атомов с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ным заряд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дра 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атом на иранских деньгах"/>
          <p:cNvPicPr/>
          <p:nvPr/>
        </p:nvPicPr>
        <p:blipFill>
          <a:blip r:embed="rId1"/>
          <a:stretch/>
        </p:blipFill>
        <p:spPr>
          <a:xfrm>
            <a:off x="684360" y="357336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волат.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molecul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меньшит. от лат.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moles – ма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крочастица, образованная из дву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и большего числа атомов и способная к самостоятельному существов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молекулы"/>
          <p:cNvPicPr/>
          <p:nvPr/>
        </p:nvPicPr>
        <p:blipFill>
          <a:blip r:embed="rId1"/>
          <a:stretch/>
        </p:blipFill>
        <p:spPr>
          <a:xfrm>
            <a:off x="684360" y="4149720"/>
            <a:ext cx="2663640" cy="2158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543480" y="6184800"/>
            <a:ext cx="50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остержневая модель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ion – идущ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оатомные или многоатомные частицы, несущие электрический заря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 ио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катиона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kation, буквально – идущий вни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атом) H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− 1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−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= H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и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анион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anion, буквально идущий вверх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−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=Cl 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1280" y="1557360"/>
            <a:ext cx="4475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valentia – сил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способность атома присоединять или замещать определенное число других атомов или атомных групп с образованием химической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молекулы воды и пара"/>
          <p:cNvPicPr/>
          <p:nvPr/>
        </p:nvPicPr>
        <p:blipFill>
          <a:blip r:embed="rId1"/>
          <a:stretch/>
        </p:blipFill>
        <p:spPr>
          <a:xfrm>
            <a:off x="428760" y="150012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сохранения м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 веществ, вступивших в реакцию, равна массе всех продуктов ре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ически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простых веществ, а также формы и свойства соединений элементов находятся в периодической зависимости от заряда ядра э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EFC4-3B6C-498F-B0EF-E7165634E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постоянства со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вещество, каким бы способом оно ни было получено, всегда имеет один и тот же качественный и количественный состав (и свой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эквивал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 взаимодействуют между собой в количествах, пропорциональных их эквивален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B236-8634-4D2A-B265-B7EF44D83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91520" cy="1081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имия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79280" y="1980720"/>
            <a:ext cx="670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ука о превращениях веществ, связанных с измен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нного окружения атомных яд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 колбы"/>
          <p:cNvPicPr/>
          <p:nvPr/>
        </p:nvPicPr>
        <p:blipFill>
          <a:blip r:embed="rId1"/>
          <a:stretch/>
        </p:blipFill>
        <p:spPr>
          <a:xfrm>
            <a:off x="250920" y="2349360"/>
            <a:ext cx="1739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2139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крат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два элемента образуют между собой несколько соединений, то массовые доли любого из элементов в этих соединениях относятся друг к другу как небольшие целые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объем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мы вступающих в реакцию газов, а также объемы газообразных продуктов реакции относятся друг к другу как простые целые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1656-5C33-4338-9755-0B53ABDF59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(температура и давление) содержится одинаковое число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ледствия из закона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одинаковых условиях равные количества различных газов занимают равные объ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 н.у. (Т = 273,15 К, Р = 1,01 ∙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̊С; Р = 1 атм) 1 моль любого газа занимает объем, примерно равный 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F862-631E-466E-BAC0-C36EC189D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42640"/>
            <a:ext cx="8400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ъединенный газовы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Р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начения давления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ма, температуры при н.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авнение Клайперона-Менделеева (для идеального г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, где Р - давление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ъем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личество газа (моль); Т – температура (в К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ниверсальная газовая постоянна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8,314 Дж/ моль ∙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B181-908B-44B3-8580-892C20E16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7" descr=""/>
          <p:cNvPicPr/>
          <p:nvPr/>
        </p:nvPicPr>
        <p:blipFill>
          <a:blip r:embed="rId1"/>
          <a:stretch/>
        </p:blipFill>
        <p:spPr>
          <a:xfrm>
            <a:off x="6572160" y="2143080"/>
            <a:ext cx="2210040" cy="1357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9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.И.Менделеев*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612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лижайший предмет хим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ложения которых составл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тела мир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ращений их друг в дру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явлений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овождающих такие превращ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Менделеев Д. Основы Химии 6-е издание С-Пб, тип. В.Демакова, 1895.– 780 с., с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портрет Д"/>
          <p:cNvPicPr/>
          <p:nvPr/>
        </p:nvPicPr>
        <p:blipFill>
          <a:blip r:embed="rId1"/>
          <a:stretch/>
        </p:blipFill>
        <p:spPr>
          <a:xfrm>
            <a:off x="285840" y="1628640"/>
            <a:ext cx="2714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72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материи, которая обладает массой покоя. Состоит из элементарных частиц: электронов, протонов, нейтронов, мезонов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я изучает главным образом вещество, организованное в атомы, молекулы, ионы и радикалы. Т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а принято подразделять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ые и сложные (хим. соедин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олбы 3"/>
          <p:cNvPicPr/>
          <p:nvPr/>
        </p:nvPicPr>
        <p:blipFill>
          <a:blip r:embed="rId1"/>
          <a:stretch/>
        </p:blipFill>
        <p:spPr>
          <a:xfrm>
            <a:off x="179280" y="1341360"/>
            <a:ext cx="1656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ло и вещ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Что мы сажаем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ажая Лес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егкие крылья —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ететь в небес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тол, за которы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Ты будешь писать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учк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инейк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ена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И тетрадь.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Я.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Безымянный"/>
          <p:cNvPicPr/>
          <p:nvPr/>
        </p:nvPicPr>
        <p:blipFill>
          <a:blip r:embed="rId1"/>
          <a:stretch/>
        </p:blipFill>
        <p:spPr>
          <a:xfrm>
            <a:off x="611280" y="1628640"/>
            <a:ext cx="2174760" cy="410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графика Думай"/>
          <p:cNvPicPr/>
          <p:nvPr/>
        </p:nvPicPr>
        <p:blipFill>
          <a:blip r:embed="rId2"/>
          <a:stretch/>
        </p:blipFill>
        <p:spPr>
          <a:xfrm>
            <a:off x="6500880" y="1773360"/>
            <a:ext cx="2074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14800" y="1571760"/>
            <a:ext cx="54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ы атомами одного химического элемента и потому являются формой ег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ования в свободном состоя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ера, железо, озон, алм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алмазы(диаманты)"/>
          <p:cNvPicPr/>
          <p:nvPr/>
        </p:nvPicPr>
        <p:blipFill>
          <a:blip r:embed="rId1"/>
          <a:stretch/>
        </p:blipFill>
        <p:spPr>
          <a:xfrm>
            <a:off x="357120" y="1571760"/>
            <a:ext cx="2857680" cy="4714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11600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м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зованы разными элементами и могут иметь состав постоянный (стехиометрические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дальтони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ли меняющийся 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х пределах   (нестехиометр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единения 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бертолли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ристаллы соли"/>
          <p:cNvPicPr/>
          <p:nvPr/>
        </p:nvPicPr>
        <p:blipFill>
          <a:blip r:embed="rId1"/>
          <a:stretch/>
        </p:blipFill>
        <p:spPr>
          <a:xfrm>
            <a:off x="5867280" y="4437000"/>
            <a:ext cx="2665440" cy="1849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840200" y="6184800"/>
            <a:ext cx="41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поваренной соли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меси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48000" y="1981080"/>
            <a:ext cx="5338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си – системы, состоящие из двух или более веществ, свойства которых сохраняются, а сами вещества могут быть разделены друг от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ребенок-рис.1"/>
          <p:cNvPicPr/>
          <p:nvPr/>
        </p:nvPicPr>
        <p:blipFill>
          <a:blip r:embed="rId1"/>
          <a:stretch/>
        </p:blipFill>
        <p:spPr>
          <a:xfrm>
            <a:off x="500040" y="1785960"/>
            <a:ext cx="3186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91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Вещества делятся по происхожд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3-0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4:13:20Z</dcterms:created>
  <dc:creator>Kim</dc:creator>
  <dc:description/>
  <dc:language>en-US</dc:language>
  <cp:lastModifiedBy>Admin</cp:lastModifiedBy>
  <dcterms:modified xsi:type="dcterms:W3CDTF">2012-12-18T12:06:45Z</dcterms:modified>
  <cp:revision>13</cp:revision>
  <dc:subject/>
  <dc:title>Основные понятия хим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60000000000010250300207f7000400038000</vt:lpwstr>
  </property>
</Properties>
</file>